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D03C-0D1B-4A93-89C6-C1499862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40D9-45E7-4CC1-8913-38DCB095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B642-CD1A-438B-97D6-F7404FCC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2411-2DE2-494E-B5A3-29C86D55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25384-BBB7-4E7B-8439-8C693507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77E6-8C31-4ABC-B955-FD10C5E8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698E-C275-404E-BC9F-B40F6F9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E5D8-CA1C-4242-A78F-B50C2BF3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1760" y="228564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7C9B-23AC-4A22-9033-D619178E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AB61-9372-4F2F-9406-931EC0C6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4DBD-2B23-40A7-8F15-AFDE83C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2579-8645-4FF5-884D-C8E7261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B6E7AA79-A0C1-47FF-8459-C52E2661E322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601"/>
              </a:spcBef>
              <a:buClr>
                <a:srgbClr val="003e8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3032280" indent="-74304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3541680" indent="-228600">
              <a:spcBef>
                <a:spcPts val="601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3541680" indent="-22860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99ED-9174-400F-AF47-47B6F19ABE01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342216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089920" y="55728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2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DBD7ED60-489A-4565-BA61-56DB8999D433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53" name="Logo_Condat_cmyk_16mm" descr=""/>
          <p:cNvPicPr/>
          <p:nvPr/>
        </p:nvPicPr>
        <p:blipFill>
          <a:blip r:embed="rId2"/>
          <a:stretch/>
        </p:blipFill>
        <p:spPr>
          <a:xfrm>
            <a:off x="9072720" y="233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14400" algn="ctr">
              <a:spcBef>
                <a:spcPts val="499"/>
              </a:spcBef>
              <a:buClr>
                <a:srgbClr val="003e8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371600" indent="91764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1828800" indent="1484280" algn="ctr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1828800" indent="14842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hancing Windows Shared Memory for VCMS </a:t>
            </a:r>
            <a:br>
              <a:rPr sz="4800"/>
            </a:b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(The SHM-NT Gadget)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4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“… ‘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cause windows </a:t>
            </a: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memory-mapped file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solution is a lame duck!”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re is more implementation-specific shared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critical global scalar data types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 pointers referencing unshared dat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can be grouped and shared in a DLL by use of a link comman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critical: pointers referencing a shared objec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.g. fr’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stituting a shared memory li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 DLL’s also suffers the windows map view location weakn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gain: Why not use the new shared memory implementa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the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nd local knowledge reflecting parts of global knowledg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client needs to know which sections are already mapp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formation stored in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: How to use the new shared memory gadge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o implement itself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sn’t that a hen/egg proble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o, it’s just a matter of proper initializing and embedding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oth special section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 region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) are known to the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hose internal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sections receive a special treatment whilst system start-u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i="1" lang="en-GB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s just an array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taining section names, addresses and siz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he </a:t>
            </a:r>
            <a:r>
              <a:rPr b="1" i="1" lang="en-GB" sz="2400" spc="-1" strike="noStrike">
                <a:solidFill>
                  <a:srgbClr val="003069"/>
                </a:solidFill>
                <a:latin typeface="ITC Officina Sans Book"/>
              </a:rPr>
              <a:t>region list</a:t>
            </a: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 is a double linked lis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its anchor is located outside of it’s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ed by a DLL global vari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914400"/>
            <a:ext cx="8915400" cy="2743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he Big Pi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1143000"/>
            <a:ext cx="1371600" cy="457200"/>
            <a:chOff x="838080" y="1143000"/>
            <a:chExt cx="1371600" cy="457200"/>
          </a:xfrm>
        </p:grpSpPr>
        <p:sp>
          <p:nvSpPr>
            <p:cNvPr id="169" name=""/>
            <p:cNvSpPr/>
            <p:nvPr/>
          </p:nvSpPr>
          <p:spPr>
            <a:xfrm>
              <a:off x="83808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38080" y="1600200"/>
            <a:ext cx="1371600" cy="228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2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1828800"/>
            <a:ext cx="1371600" cy="2286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Mem Section (3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600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1828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069"/>
                </a:solidFill>
                <a:latin typeface="ITC Officina Sans Book"/>
              </a:rPr>
              <a:t>unmapp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14800" y="1143000"/>
            <a:ext cx="1371600" cy="2057400"/>
            <a:chOff x="4114800" y="1143000"/>
            <a:chExt cx="1371600" cy="2057400"/>
          </a:xfrm>
        </p:grpSpPr>
        <p:sp>
          <p:nvSpPr>
            <p:cNvPr id="181" name=""/>
            <p:cNvSpPr/>
            <p:nvPr/>
          </p:nvSpPr>
          <p:spPr>
            <a:xfrm>
              <a:off x="4114800" y="1600200"/>
              <a:ext cx="1371600" cy="2286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2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4800" y="20574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14800" y="1828800"/>
              <a:ext cx="13716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Mem Section (3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14800" y="22860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25146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14800" y="27432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14800" y="2971800"/>
              <a:ext cx="1371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1143000"/>
              <a:ext cx="1371600" cy="457200"/>
              <a:chOff x="4114800" y="1143000"/>
              <a:chExt cx="1371600" cy="45720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1143000"/>
                <a:ext cx="1371600" cy="22860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Pool List (0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1371600"/>
                <a:ext cx="1371600" cy="228600"/>
              </a:xfrm>
              <a:prstGeom prst="rect">
                <a:avLst/>
              </a:prstGeom>
              <a:solidFill>
                <a:srgbClr val="f2ac78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3069"/>
                    </a:solidFill>
                    <a:latin typeface="ITC Officina Sans Book"/>
                  </a:rPr>
                  <a:t>Region List (1)</a:t>
                </a:r>
                <a:endParaRPr b="0" lang="en-US" sz="1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7315200" y="1143000"/>
            <a:ext cx="1371600" cy="457200"/>
            <a:chOff x="7315200" y="1143000"/>
            <a:chExt cx="1371600" cy="457200"/>
          </a:xfrm>
        </p:grpSpPr>
        <p:sp>
          <p:nvSpPr>
            <p:cNvPr id="192" name=""/>
            <p:cNvSpPr/>
            <p:nvPr/>
          </p:nvSpPr>
          <p:spPr>
            <a:xfrm>
              <a:off x="7315200" y="1143000"/>
              <a:ext cx="1371600" cy="2286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Pool List (0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15200" y="1371600"/>
              <a:ext cx="1371600" cy="228600"/>
            </a:xfrm>
            <a:prstGeom prst="rect">
              <a:avLst/>
            </a:prstGeom>
            <a:solidFill>
              <a:srgbClr val="f2ac78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3069"/>
                  </a:solidFill>
                  <a:latin typeface="ITC Officina Sans Book"/>
                </a:rPr>
                <a:t>Region List (1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315200" y="20574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22860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7432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5200" y="25146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971800"/>
            <a:ext cx="13716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914400"/>
            <a:ext cx="0" cy="5105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944640"/>
            <a:ext cx="0" cy="510516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38080" y="3809880"/>
            <a:ext cx="228600" cy="2057400"/>
            <a:chOff x="838080" y="3809880"/>
            <a:chExt cx="228600" cy="2057400"/>
          </a:xfrm>
        </p:grpSpPr>
        <p:sp>
          <p:nvSpPr>
            <p:cNvPr id="202" name=""/>
            <p:cNvSpPr/>
            <p:nvPr/>
          </p:nvSpPr>
          <p:spPr>
            <a:xfrm>
              <a:off x="83808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3808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808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808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808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14800" y="3809880"/>
            <a:ext cx="228600" cy="2057400"/>
            <a:chOff x="4114800" y="3809880"/>
            <a:chExt cx="228600" cy="2057400"/>
          </a:xfrm>
        </p:grpSpPr>
        <p:sp>
          <p:nvSpPr>
            <p:cNvPr id="212" name=""/>
            <p:cNvSpPr/>
            <p:nvPr/>
          </p:nvSpPr>
          <p:spPr>
            <a:xfrm>
              <a:off x="41148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148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148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2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48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148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148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315200" y="3809880"/>
            <a:ext cx="228600" cy="2057400"/>
            <a:chOff x="7315200" y="3809880"/>
            <a:chExt cx="228600" cy="2057400"/>
          </a:xfrm>
        </p:grpSpPr>
        <p:sp>
          <p:nvSpPr>
            <p:cNvPr id="222" name=""/>
            <p:cNvSpPr/>
            <p:nvPr/>
          </p:nvSpPr>
          <p:spPr>
            <a:xfrm>
              <a:off x="7315200" y="3809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15200" y="4038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1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4267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0" y="4495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&amp;3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520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49528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15200" y="51814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15200" y="54100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15200" y="5638680"/>
              <a:ext cx="228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3069"/>
                  </a:solidFill>
                  <a:latin typeface="ITC Officina Sans Book"/>
                </a:rPr>
                <a:t>/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10412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805200" y="1204920"/>
            <a:ext cx="260280" cy="738360"/>
            <a:chOff x="3805200" y="1204920"/>
            <a:chExt cx="260280" cy="738360"/>
          </a:xfrm>
        </p:grpSpPr>
        <p:sp>
          <p:nvSpPr>
            <p:cNvPr id="233" name=""/>
            <p:cNvSpPr/>
            <p:nvPr/>
          </p:nvSpPr>
          <p:spPr>
            <a:xfrm>
              <a:off x="3989520" y="1285920"/>
              <a:ext cx="75960" cy="2286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9360 h 228600"/>
                <a:gd name="textAreaBottom" fmla="*/ 2192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87640" y="1252440"/>
              <a:ext cx="162000" cy="441360"/>
            </a:xfrm>
            <a:custGeom>
              <a:avLst/>
              <a:gdLst>
                <a:gd name="textAreaLeft" fmla="*/ 47520 w 162000"/>
                <a:gd name="textAreaRight" fmla="*/ 162360 w 162000"/>
                <a:gd name="textAreaTop" fmla="*/ 18360 h 441360"/>
                <a:gd name="textAreaBottom" fmla="*/ 423000 h 44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05200" y="1204920"/>
              <a:ext cx="241200" cy="738360"/>
            </a:xfrm>
            <a:custGeom>
              <a:avLst/>
              <a:gdLst>
                <a:gd name="textAreaLeft" fmla="*/ 70920 w 241200"/>
                <a:gd name="textAreaRight" fmla="*/ 241560 w 241200"/>
                <a:gd name="textAreaTop" fmla="*/ 30600 h 738360"/>
                <a:gd name="textAreaBottom" fmla="*/ 707760 h 7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538960" y="1461960"/>
            <a:ext cx="191880" cy="466920"/>
            <a:chOff x="5538960" y="1461960"/>
            <a:chExt cx="191880" cy="466920"/>
          </a:xfrm>
        </p:grpSpPr>
        <p:sp>
          <p:nvSpPr>
            <p:cNvPr id="237" name=""/>
            <p:cNvSpPr/>
            <p:nvPr/>
          </p:nvSpPr>
          <p:spPr>
            <a:xfrm>
              <a:off x="5538960" y="1511280"/>
              <a:ext cx="91800" cy="212760"/>
            </a:xfrm>
            <a:custGeom>
              <a:avLst/>
              <a:gdLst>
                <a:gd name="textAreaLeft" fmla="*/ 0 w 91800"/>
                <a:gd name="textAreaRight" fmla="*/ 64440 w 91800"/>
                <a:gd name="textAreaTop" fmla="*/ 8640 h 212760"/>
                <a:gd name="textAreaBottom" fmla="*/ 204120 h 2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43640" y="1461960"/>
              <a:ext cx="187200" cy="466920"/>
            </a:xfrm>
            <a:custGeom>
              <a:avLst/>
              <a:gdLst>
                <a:gd name="textAreaLeft" fmla="*/ 0 w 187200"/>
                <a:gd name="textAreaRight" fmla="*/ 131400 w 187200"/>
                <a:gd name="textAreaTop" fmla="*/ 19440 h 466920"/>
                <a:gd name="textAreaBottom" fmla="*/ 4474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82560" y="1298520"/>
            <a:ext cx="76320" cy="228600"/>
          </a:xfrm>
          <a:custGeom>
            <a:avLst/>
            <a:gdLst>
              <a:gd name="textAreaLeft" fmla="*/ 22320 w 76320"/>
              <a:gd name="textAreaRight" fmla="*/ 76320 w 7632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1040" y="126540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8600" y="121752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74080" y="1290600"/>
            <a:ext cx="75960" cy="228600"/>
          </a:xfrm>
          <a:custGeom>
            <a:avLst/>
            <a:gdLst>
              <a:gd name="textAreaLeft" fmla="*/ 22320 w 75960"/>
              <a:gd name="textAreaRight" fmla="*/ 76320 w 7596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72200" y="1257480"/>
            <a:ext cx="162000" cy="441000"/>
          </a:xfrm>
          <a:custGeom>
            <a:avLst/>
            <a:gdLst>
              <a:gd name="textAreaLeft" fmla="*/ 47520 w 162000"/>
              <a:gd name="textAreaRight" fmla="*/ 162360 w 162000"/>
              <a:gd name="textAreaTop" fmla="*/ 18360 h 441000"/>
              <a:gd name="textAreaBottom" fmla="*/ 422640 h 44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89760" y="1209600"/>
            <a:ext cx="241200" cy="738360"/>
          </a:xfrm>
          <a:custGeom>
            <a:avLst/>
            <a:gdLst>
              <a:gd name="textAreaLeft" fmla="*/ 70920 w 241200"/>
              <a:gd name="textAreaRight" fmla="*/ 241560 w 241200"/>
              <a:gd name="textAreaTop" fmla="*/ 30600 h 738360"/>
              <a:gd name="textAreaBottom" fmla="*/ 707760 h 7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732880" y="1514520"/>
            <a:ext cx="92160" cy="212760"/>
          </a:xfrm>
          <a:custGeom>
            <a:avLst/>
            <a:gdLst>
              <a:gd name="textAreaLeft" fmla="*/ 0 w 92160"/>
              <a:gd name="textAreaRight" fmla="*/ 64800 w 9216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737560" y="146520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65480" y="1506600"/>
            <a:ext cx="91800" cy="212760"/>
          </a:xfrm>
          <a:custGeom>
            <a:avLst/>
            <a:gdLst>
              <a:gd name="textAreaLeft" fmla="*/ 0 w 91800"/>
              <a:gd name="textAreaRight" fmla="*/ 64440 w 91800"/>
              <a:gd name="textAreaTop" fmla="*/ 8640 h 212760"/>
              <a:gd name="textAreaBottom" fmla="*/ 204120 h 21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70160" y="1457280"/>
            <a:ext cx="187200" cy="466920"/>
          </a:xfrm>
          <a:custGeom>
            <a:avLst/>
            <a:gdLst>
              <a:gd name="textAreaLeft" fmla="*/ 0 w 187200"/>
              <a:gd name="textAreaRight" fmla="*/ 131400 w 187200"/>
              <a:gd name="textAreaTop" fmla="*/ 19440 h 466920"/>
              <a:gd name="textAreaBottom" fmla="*/ 447480 h 4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306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264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1680" y="31662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069"/>
                </a:solidFill>
                <a:latin typeface="ITC Officina Sans Book"/>
              </a:rPr>
              <a:t>clien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30480" y="46810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53840" y="467784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ontext m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93840" y="873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pool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45080" y="88164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3069"/>
                </a:solidFill>
                <a:latin typeface="Times New Roman"/>
              </a:rPr>
              <a:t>region lis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1049400"/>
            <a:ext cx="297000" cy="87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513040" y="1154160"/>
            <a:ext cx="453960" cy="2174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e &amp; map a Sectio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create_attrib_object(name, &amp;obj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CreateSection( &amp;hdl, ..., &amp;obj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OpenSection( &amp;hdl, ..., &amp;obj 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FALS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osvi.dwMajorVersion == WIN200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m_offset()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        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already stored sect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 else if (osvi.dwMajorVersion == WINNT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0L; /* use the first free area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c != STATUS_SUCCESS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mappedAddr == 0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SHAREDEND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incremental, aligned placement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for( ; mappedAddr != SHAREDBEGIN;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-= SHAREDSTEP ) 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c = ZwMapViewOfSection( hdl, (HANDLE)-1, mappedAddr, ...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rc == STATUS_SUCCESS 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break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name, mappedAddr, rsize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i="1" lang="en-GB" sz="1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get_from_pool(name, &amp;tmpaddr) == TRUE: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mappedAddr = (char*) tmp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ZwMapViewOfSection( hdl, (HANDLE)-1, &amp;mappedAddr, ...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Both cases:</a:t>
            </a:r>
            <a:endParaRPr b="1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notice_mapping_in_context(mapped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creation of a Shared Heap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poolAddr == 0) {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it_shared_address_pool(); /* give access to the 2 internal regions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_all(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 reg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r = reg-&gt;pregion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( strcmp(pr-&gt;name, name) == 0 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*phdl = (unsigned long)p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urn SHM_EXISTS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reg-&gt;nex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section( name, size, &amp;addr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... init internal heap managment data ...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endParaRPr b="1" lang="en-US" sz="1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ource glimpses (init of internal section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7320" y="1020240"/>
            <a:ext cx="4221000" cy="545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1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=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0 = shm_section((char*)REGIONPOOLNAME, poolSize0, &amp;poolAddr 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/* local var poolAdr is != NULL from now on, will trigger action of the other pool funcs ... */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0 == SHM_OK) || (ret0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0 = pool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t1 = shm_heap((char*)REGIONLISTNAME, poolSize1, &amp;poolListAddr, TRUE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(ret1 == SHM_OK) || (ret1 == SHM_EXISTS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f (ret0 == SHM_OK) 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1 = 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ut_to_pool(REGIONPOOLNAME, poolAddr, poolSize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0960" y="1020600"/>
            <a:ext cx="422136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while((spe++) &lt;= lastSpe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name[0]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addr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pe-&gt;size 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 = shm_alloc( poolListAddr,        sizeof(USEDREGION)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next = regionlist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-&gt;pregion = (REGIONGLOBALS*)poolListAddr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regionlist = reg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Case 2)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regionlist != 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POOLNAME, poolSize0, &amp;region0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Addr = region0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shm_map((char*)REGIONLISTNAME, poolSize1, &amp;region1)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poolListAddr = region1;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section(char * name, unsigned long int rsize, unsigned long int * p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“raw” (to be managed by user)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malloc/free availab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heap(char * name, unsigned long int rsize, unsigned   long int * phdl, BOOL forceInit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reates a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ared memory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oviding classic m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d on shm_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delete_section(unsigned long int hdl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letes a shared memor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r a shared heap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* shm_alloc(unsigned long int hdl, unsigned long int size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llocat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free(void * addr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eleases a chunk in the denoted shared heap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exit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nmaps all sections from a cli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oes not delete any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rrespective the internal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21000" indent="-18756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are deleted, if they are the solely remainder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3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 shm_map( char * name, unsigned long int rsize, unsigned long int * paddr);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 single, specific shared memory section/heap.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map_all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nto current address spa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long int shm_map_by_exeption(EXCEPTION_POINTERS* EP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p ALL remote created shared memory sections by “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trap on use”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int q_read(              </a:t>
            </a:r>
            <a:endParaRPr b="0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try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[...main q_read code...]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__except (shm_map_by_exeption(GetExceptionInformation())) {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}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        </a:t>
            </a:r>
            <a:r>
              <a:rPr b="1" lang="en-GB" sz="14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erface (4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pools(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print information about all shared memory address pools (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es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ize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n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void shm_list_heap( FILE * outf, char * name );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service/debug. List internal management data of a shared memory heap. 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used in Program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hmList.exe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, not really necessary for implementation.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Introduc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Problems in VCMS with using Memory-Mapped Fil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New problems to resolv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urce glimps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Why dynamic-link-libraries for sharing?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’ve handled shared dynamic data. What’s about linking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n we get  rid of that clumsy </a:t>
            </a:r>
            <a:r>
              <a:rPr b="0" lang="en-GB" sz="2000" spc="-1" strike="noStrike">
                <a:solidFill>
                  <a:srgbClr val="f1230d"/>
                </a:solidFill>
                <a:latin typeface="ITC Officina Sans Book"/>
              </a:rPr>
              <a:t>/base:0x60100000 /fixed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linkage now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YES! 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hasn’t 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have to handle the shared static data, too? By moving it all into shared memory sections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!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We can safely ignore this type of FRAME data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located and referenced in the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stack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only (single process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it is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non-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in32 code, like all partition-memory related data </a:t>
            </a:r>
            <a:r>
              <a:rPr b="0" i="1" lang="en-GB" sz="2000" spc="-1" strike="noStrike">
                <a:solidFill>
                  <a:srgbClr val="901508"/>
                </a:solidFill>
                <a:latin typeface="Comic Sans MS"/>
              </a:rPr>
              <a:t>(by now! Partitions may come to win32 later on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7716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if the data (or any sub-data, if structured) isn’t remembered by it’s location (&amp; address operator and resulting pointer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providing a DLL-solution only (no shm_nt.lib)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HM_N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uses VCMS semaphores, based on shared data. Easily achieved by constituting a dll. </a:t>
            </a:r>
            <a:r>
              <a:rPr b="0" lang="en-GB" sz="2000" spc="-1" strike="noStrike">
                <a:solidFill>
                  <a:srgbClr val="901508"/>
                </a:solidFill>
                <a:latin typeface="Comic Sans MS"/>
              </a:rPr>
              <a:t>Suggestion for a coming VCMS-Release:  dynamic semaphore creation, based on a SHM_NT sec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Result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e earn a better performance now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is at least, say, 30 % faster than the best of previou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rather independent from queue buffer element siz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isn’t performance gain higher on larger queues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good question!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35480" indent="-2829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ut why should it?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de-coupling is properly d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99840" indent="-279720">
              <a:spcBef>
                <a:spcPts val="499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y eliminating the Windows 2nd abstraction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o further scheduling/dispatching problem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31480" indent="-22608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e have only one Processo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9480" indent="-339480">
              <a:lnSpc>
                <a:spcPct val="18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iscussion, anybod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How to access and use the SHM-NT Gadge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Sourc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vcms-nt\… </a:t>
            </a: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example of usage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Include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\gpf\shm_nt\inc\shm_nt.h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DLL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\gpf\shm_nt\lib\shm_nt.dl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ables (preliminary)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SHM_NT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VCMS_FLO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Further reading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Jeffrey Richter, MS-Windows für Experte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An introduction into Windows System Programming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Gary Nebbett, WINDOWS NT/2000 Native API Reference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Win NT/2K undocumented system call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17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Virtual Memory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virtmm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Randy Kath, Managing Memory-Mapped Files in Win32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spcBef>
                <a:spcPts val="45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069"/>
                </a:solidFill>
                <a:latin typeface="ITC Officina Sans Book"/>
              </a:rPr>
              <a:t>http://msdn.microsoft.com/library/en-us/dngenlib/html/msdn_manamemo.asp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069"/>
                </a:solidFill>
                <a:latin typeface="ITC Officina Sans Book"/>
              </a:rPr>
              <a:t>End</a:t>
            </a:r>
            <a:endParaRPr b="1" lang="en-US" sz="4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(Enough for today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1905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1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Linking on fixed Address required for some DLL’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pointer issues on different address-ranges requires static link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ms.dll:  /base:0x200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rame.dll: /base:0x60100000 /fix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32640" indent="-332640">
              <a:lnSpc>
                <a:spcPct val="2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erformance Issue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ome G23Net test cases failed with time ou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20720" indent="-2772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unning result after foolish fiddling with parameters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08440" indent="-221400">
              <a:lnSpc>
                <a:spcPct val="130000"/>
              </a:lnSpc>
              <a:spcBef>
                <a:spcPts val="499"/>
              </a:spcBef>
              <a:buClr>
                <a:srgbClr val="0063ce"/>
              </a:buClr>
              <a:buSzPct val="12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bigger the queu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567440" indent="-2739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ITC Officina Sans Book"/>
              </a:rPr>
              <a:t>the slower the transfer?!?</a:t>
            </a:r>
            <a:r>
              <a:rPr b="1" i="1" lang="en-US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8354880" y="969480"/>
            <a:ext cx="1143000" cy="141444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65600" y="2373120"/>
            <a:ext cx="4587840" cy="2533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24080" y="4933440"/>
            <a:ext cx="1515960" cy="473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8400" y="5417640"/>
            <a:ext cx="15033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2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VCMS: Increasing the queue siz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127920"/>
            <a:ext cx="8077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2280" y="57229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120" y="534348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1120" y="496260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640" y="458460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2280" y="419256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120" y="3424320"/>
            <a:ext cx="871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04812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666880"/>
            <a:ext cx="87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382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5732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819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0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58588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962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34476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7274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0544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6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6396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43800" y="602460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0404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7832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6642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000840" y="6038640"/>
            <a:ext cx="0" cy="91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73760" y="603252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16292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924680" y="602136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05920" y="6053040"/>
            <a:ext cx="0" cy="921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040" y="2278080"/>
            <a:ext cx="0" cy="3867120"/>
          </a:xfrm>
          <a:prstGeom prst="line">
            <a:avLst/>
          </a:prstGeom>
          <a:ln w="12600">
            <a:solidFill>
              <a:srgbClr val="003069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2852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480" y="54601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2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920" y="47613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6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40" y="20563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40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20" y="509976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24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920" y="61747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1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09760" y="616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3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046720" y="617616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5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85880" y="61840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2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9600" y="61650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4000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03960" y="5247360"/>
            <a:ext cx="233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Queue Elements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1865880"/>
            <a:ext cx="29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Time in seconds 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069"/>
                </a:solidFill>
                <a:latin typeface="ITC Officina Sans Book"/>
              </a:rPr>
              <a:t>including silent (10s?)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55680" y="535788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83160" y="4879800"/>
            <a:ext cx="10764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32092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2960" y="5675400"/>
            <a:ext cx="108000" cy="108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448920" y="912960"/>
            <a:ext cx="108000" cy="107640"/>
          </a:xfrm>
          <a:prstGeom prst="ellipse">
            <a:avLst/>
          </a:prstGeom>
          <a:solidFill>
            <a:srgbClr val="ff0000"/>
          </a:solidFill>
          <a:ln cap="rnd" w="1260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80640" y="137088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ITC Officina Sans Book"/>
              </a:rPr>
              <a:t>7000/48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3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Assumption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he bigger size of the queue seems to provoke a higher system utilizatio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Quick guesses: 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aused by an additional abstraction layer of file mapped shared memory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51560" indent="-21024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</a:t>
            </a:r>
            <a:r>
              <a:rPr b="0" i="1" lang="en-GB" sz="2000" spc="-1" strike="noStrike">
                <a:solidFill>
                  <a:srgbClr val="003069"/>
                </a:solidFill>
                <a:latin typeface="ITC Officina Sans Book"/>
              </a:rPr>
              <a:t>“covers”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the shared memory syst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bad scheduling provokes dispatching of idle process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lnSpc>
                <a:spcPct val="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Target solu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lnSpc>
                <a:spcPct val="12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elimination of the additional abstraction laye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Problems with using Memory-Mapped Files (4)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9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Additional Abstraction-Layer of Memory-Mapped Files</a:t>
            </a: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1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reateFileMapping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6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apViewOfFile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26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ITC Officina Sans Book"/>
              </a:rPr>
              <a:t>uses undocumented shared memory internal functions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lnSpc>
                <a:spcPct val="15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Zw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4004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Fundamentals of the new implem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Frank Reglin’s sample application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focuses the internal management of shared memory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named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linked list of se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anaging section contents via alloc/fre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base usage of Zw*() func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Some undocumented Windows NT/2000 Zw*() functions: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rea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Open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), ZwUnmapViewOf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98400" indent="-2685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issing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Delet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74240" indent="-214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CloseSection(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1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ZwMapViewOfSection() doesn’t guarantee a unique mapped location for all views of the same memory section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 main goal of our implementation, enhancing the Windows shared mem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but how to achieve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ZwMapViewOfSection(hdl, …, &amp;addr, ...) with addr == 0 means automatic view map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ddr returns the resulting location of this premier placemen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which mustn’t change for all further ZwMapViewOfSection() calls with the same handl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d as to be propagated to all clients, henc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in 2000 rejects automatic view map placement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an incremental, aligned placement has to be applied instea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76080" indent="-25992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ill mapping of a premier view placement succeed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720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New problems to resolve (2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OK, an initial map view placement of a given section may succeed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How to propagate the location to all clients of interes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Message Passing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temporary File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other IPC mechanism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069"/>
                </a:solidFill>
                <a:latin typeface="ITC Officina Sans Book"/>
              </a:rPr>
              <a:t>Why not use the new shared memory gadget?</a:t>
            </a: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constituting a </a:t>
            </a:r>
            <a:r>
              <a:rPr b="1" i="1" lang="en-GB" sz="2000" spc="-1" strike="noStrike">
                <a:solidFill>
                  <a:srgbClr val="003069"/>
                </a:solidFill>
                <a:latin typeface="ITC Officina Sans Book"/>
              </a:rPr>
              <a:t>pool list</a:t>
            </a:r>
            <a:r>
              <a:rPr b="0" lang="en-GB" sz="2000" spc="-1" strike="noStrike">
                <a:solidFill>
                  <a:srgbClr val="003069"/>
                </a:solidFill>
                <a:latin typeface="ITC Officina Sans Book"/>
              </a:rPr>
              <a:t> containing section addresses inside a specific, qualified shared memory section?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B</dc:creator>
  <dc:description/>
  <dc:language>en-US</dc:language>
  <cp:lastModifiedBy>Reinhard Meyer</cp:lastModifiedBy>
  <cp:lastPrinted>1999-03-09T09:45:08Z</cp:lastPrinted>
  <dcterms:modified xsi:type="dcterms:W3CDTF">2002-06-07T13:27:20Z</dcterms:modified>
  <cp:revision>368</cp:revision>
  <dc:subject>G23 Training</dc:subject>
  <dc:title>Agenda</dc:title>
</cp:coreProperties>
</file>